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E42FD-89BC-4D49-B53D-AB98318EB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43680-3CE5-4798-8E4D-FF84C04FB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CE373-F00A-4CBC-9942-0776D802F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9971A-EA39-4A2F-9604-BF3F4F5EA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D05A8-F201-4C91-B9AB-62CB52CC7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52F98-DAC1-449D-85D0-1382FFC40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A8EF0-5559-4ECD-84E1-235C9ED09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2406B-FB7F-4EC5-A71B-5BF5BA528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7368C-A6B0-4558-9E21-69E3708BC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BFBC-B78C-4F36-9682-C1FE51F0C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BA0C-1EF4-4A62-922A-C7F3193C5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F465F-2D55-4025-B981-8A3CDD2D6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E7E3A-A969-4E00-B3AF-81910CEE1668}"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C10AA-5A6C-47F5-B6AD-DBBE06BD56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3124080" y="320040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42" name="TextBox 5"/>
          <p:cNvSpPr/>
          <p:nvPr/>
        </p:nvSpPr>
        <p:spPr>
          <a:xfrm>
            <a:off x="380880" y="1809720"/>
            <a:ext cx="3429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  </a:t>
            </a:r>
            <a:r>
              <a:rPr b="0" lang="en-US" sz="3600" spc="-1" strike="noStrike" u="sng">
                <a:solidFill>
                  <a:srgbClr val="000000"/>
                </a:solidFill>
                <a:uFillTx/>
                <a:latin typeface="Calibri"/>
              </a:rPr>
              <a:t>Miss Chagnon’s Third Grade Class Lesson Plan 2 </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487692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1 Review </a:t>
            </a:r>
            <a:endParaRPr b="0" lang="en-US" sz="4400" spc="-1" strike="noStrike">
              <a:solidFill>
                <a:srgbClr val="000000"/>
              </a:solidFill>
              <a:latin typeface="Calibri"/>
            </a:endParaRPr>
          </a:p>
        </p:txBody>
      </p:sp>
      <p:sp>
        <p:nvSpPr>
          <p:cNvPr id="44" name=""/>
          <p:cNvSpPr txBox="1"/>
          <p:nvPr/>
        </p:nvSpPr>
        <p:spPr>
          <a:xfrm>
            <a:off x="457200" y="837720"/>
            <a:ext cx="3657600" cy="53341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e first lesson we discussed the sequential order of </a:t>
            </a:r>
            <a:r>
              <a:rPr b="0" i="1" lang="en-US" sz="2400" spc="-1" strike="noStrike">
                <a:solidFill>
                  <a:srgbClr val="000000"/>
                </a:solidFill>
                <a:latin typeface="Calibri"/>
              </a:rPr>
              <a:t>The Giving Tre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 then defined selflessness and created our own definition for the word selflessness with a partner.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this we discussed as a whole class how this the giving tree showed selflessness when she gave everything she had to the boy.      </a:t>
            </a:r>
            <a:r>
              <a:rPr b="0" i="1"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274680"/>
            <a:ext cx="4876920" cy="94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6" name=""/>
          <p:cNvSpPr txBox="1"/>
          <p:nvPr/>
        </p:nvSpPr>
        <p:spPr>
          <a:xfrm>
            <a:off x="456840" y="1219320"/>
            <a:ext cx="380988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our second lesson we used Padlet to help guide our class discussio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question asked in Padlet was: Did the boy in </a:t>
            </a:r>
            <a:r>
              <a:rPr b="0" i="1" lang="en-US" sz="2000" spc="-1" strike="noStrike">
                <a:solidFill>
                  <a:srgbClr val="000000"/>
                </a:solidFill>
                <a:latin typeface="Calibri"/>
              </a:rPr>
              <a:t>The Giving Tree </a:t>
            </a:r>
            <a:r>
              <a:rPr b="0" lang="en-US" sz="2000" spc="-1" strike="noStrike">
                <a:solidFill>
                  <a:srgbClr val="000000"/>
                </a:solidFill>
                <a:latin typeface="Calibri"/>
              </a:rPr>
              <a:t>practice selflessness (yes or no)? If  not wh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ents then could respond on the Padlet and then we discussed students responses as a whole clas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this discussion it is clear that the boy in </a:t>
            </a:r>
            <a:r>
              <a:rPr b="0" i="1" lang="en-US" sz="2000" spc="-1" strike="noStrike">
                <a:solidFill>
                  <a:srgbClr val="000000"/>
                </a:solidFill>
                <a:latin typeface="Calibri"/>
              </a:rPr>
              <a:t>The Giving Tree </a:t>
            </a:r>
            <a:r>
              <a:rPr b="0" lang="en-US" sz="2000" spc="-1" strike="noStrike">
                <a:solidFill>
                  <a:srgbClr val="000000"/>
                </a:solidFill>
                <a:latin typeface="Calibri"/>
              </a:rPr>
              <a:t>did not practice selflessnes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74320"/>
            <a:ext cx="4343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48" name=""/>
          <p:cNvSpPr txBox="1"/>
          <p:nvPr/>
        </p:nvSpPr>
        <p:spPr>
          <a:xfrm>
            <a:off x="456840" y="1600200"/>
            <a:ext cx="34290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ich brings us to our new vocabulary word for this lesson which is selfishnes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Selfishnes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_x0016_Caring only for oneself.</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id the boy show that he was selfish in the story?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 only took things from the tree for example her apples, branches, and trunk. The little boy never gave the tree anything in return. His main focus was on what he wan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40384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Lesson 2:</a:t>
            </a:r>
            <a:endParaRPr b="0" lang="en-US" sz="4400" spc="-1" strike="noStrike">
              <a:solidFill>
                <a:srgbClr val="000000"/>
              </a:solidFill>
              <a:latin typeface="Calibri"/>
            </a:endParaRPr>
          </a:p>
        </p:txBody>
      </p:sp>
      <p:sp>
        <p:nvSpPr>
          <p:cNvPr id="50" name=""/>
          <p:cNvSpPr txBox="1"/>
          <p:nvPr/>
        </p:nvSpPr>
        <p:spPr>
          <a:xfrm>
            <a:off x="457200" y="1417680"/>
            <a:ext cx="3733920" cy="50594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conclusion we learned that the boy and the tree were opposites of one anoth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rom this lesson we also learned another new definitions- selfishnes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believe what this story tells us is that material things cannot make us happy. The boy kept taking things from the tree but in the end the boy was just happy sitting on the tree stum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ain message is that it is better to give then receiv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9T02:01:55Z</dcterms:created>
  <dc:creator>Kelly Chagnon</dc:creator>
  <dc:description/>
  <dc:language>en-US</dc:language>
  <cp:lastModifiedBy>Kelly Chagnon</cp:lastModifiedBy>
  <dcterms:modified xsi:type="dcterms:W3CDTF">2015-10-29T02:59:06Z</dcterms:modified>
  <cp:revision>16</cp:revision>
  <dc:subject/>
  <dc:title>The Giving Tree </dc:title>
</cp:coreProperties>
</file>